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AA6-BB10-46DE-8024-3B2D6360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8DB-D1F3-42CA-B21E-01D185F4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C967-150E-4EE9-84D4-0ECD10FA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56C-74DE-4CCF-8FBB-EA0BF392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BE27-1399-4CF4-8969-DDA46F72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28CC-F210-47E8-8B6F-C81D6966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46C1-5612-401D-8531-4F0C424A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D333-E5D3-402E-A291-B5B5EC2B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C639-B53A-4895-88F1-694209E8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FEF0-7DBA-44D4-B64C-AE4EDA56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AF6F-9492-4768-BB0F-850DB108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7DD-956C-4A7C-B1BB-B2F3EAB6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C541-04A2-4BC2-A5CA-1D4C07BA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E1A0-1779-46C1-9B84-CA195BBC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FD77-1FEF-4281-94DD-C0A1AB01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B3AD-8CF0-4C3D-A7D8-C0E8F754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6989-BE0F-4A96-8E6B-9CD4B0B9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35F-6F04-4593-BFCF-14FC8752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B88-7BF2-4CD6-A12F-2AF5664E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5D9-5871-40F0-9EE1-3F76C0EB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105-DDFF-4296-BA93-582C7129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308-5374-4E04-9046-2E4FDFB1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ADF-9C77-4FB1-A58A-EF918DCC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90A-DC61-42CF-99EF-098F05AB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B322-BCE4-4B95-99E2-6150B6512D4F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7A68-4B23-4486-B055-22DC4F4FDA3E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404640"/>
            <a:ext cx="32004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Titl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28464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Echipa de proi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Nume – prenume – c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Unitatea de invatam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55480" y="505440"/>
            <a:ext cx="7219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Obiectivele proiectului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520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Obiectiv 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Obiectiv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……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4360" y="474840"/>
            <a:ext cx="4267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Bibliografi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6920" y="2491920"/>
            <a:ext cx="76518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Sursa 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Sursa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19280" y="474840"/>
            <a:ext cx="678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Obiectiv 1 - conţinu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18920" y="2707920"/>
            <a:ext cx="7219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Tex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Imag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474840"/>
            <a:ext cx="678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3333cc"/>
                </a:solidFill>
                <a:latin typeface="Arial Black"/>
              </a:rPr>
              <a:t>Obiectiv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r>
              <a:rPr b="0" lang="ro-RO" sz="4400" spc="-1" strike="noStrike">
                <a:solidFill>
                  <a:srgbClr val="3333cc"/>
                </a:solidFill>
                <a:latin typeface="Arial Black"/>
              </a:rPr>
              <a:t> - conţinu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18920" y="2707920"/>
            <a:ext cx="7219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Tex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Imag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474840"/>
            <a:ext cx="678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3333cc"/>
                </a:solidFill>
                <a:latin typeface="Arial Black"/>
              </a:rPr>
              <a:t>Obiectiv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r>
              <a:rPr b="0" lang="ro-RO" sz="4400" spc="-1" strike="noStrike">
                <a:solidFill>
                  <a:srgbClr val="3333cc"/>
                </a:solidFill>
                <a:latin typeface="Arial Black"/>
              </a:rPr>
              <a:t> - conţinu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8920" y="2707920"/>
            <a:ext cx="7219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Tex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Imag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32000" y="54936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cc"/>
                </a:solidFill>
                <a:latin typeface="Arial Black"/>
              </a:rPr>
              <a:t>Întrebarea </a:t>
            </a:r>
            <a:r>
              <a:rPr b="1" lang="en-US" sz="4400" spc="-1" strike="noStrike">
                <a:solidFill>
                  <a:srgbClr val="3333cc"/>
                </a:solidFill>
                <a:latin typeface="Arial Black"/>
              </a:rPr>
              <a:t>de </a:t>
            </a:r>
            <a:r>
              <a:rPr b="1" lang="ro-RO" sz="4400" spc="-1" strike="noStrike">
                <a:solidFill>
                  <a:srgbClr val="3333cc"/>
                </a:solidFill>
                <a:latin typeface="Arial Black"/>
              </a:rPr>
              <a:t>unit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2565360"/>
            <a:ext cx="475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Concluzi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…</a:t>
            </a: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……</a:t>
            </a: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9T03:18:03Z</dcterms:created>
  <dc:creator>Adi Sopon</dc:creator>
  <dc:description/>
  <dc:language>en-US</dc:language>
  <cp:lastModifiedBy>emi1laptopf</cp:lastModifiedBy>
  <dcterms:modified xsi:type="dcterms:W3CDTF">2010-12-29T10:21:40Z</dcterms:modified>
  <cp:revision>41</cp:revision>
  <dc:subject/>
  <dc:title>Lucrare metodico-ştiinţifică  pentru obţinerea gradului didactic I</dc:title>
</cp:coreProperties>
</file>